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C104-8434-4EF2-B71A-F68C5FFB5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95D9-7EEB-4792-AF7A-C12DA74513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361F-CC5D-4F6B-8AA3-9D300F965A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TE listserv story on getting a college job. Promised you that reality checks would be balanced with action opportunit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 22 of career building—you need experience to get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say, this is great—except I haven’t really DONE anything yet/don’t have any professional exper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and am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ing holes. Professional students get good at responding to others’ demands, fulfilling requirements, discerning how to ‘get the A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o-called ‘real’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the shift to being in charge of your own career, taking the initiative, not waiting for the phone to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BFDF-BC53-4DE1-98FD-0870E380E7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your resume to several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 spelling—special care with people’s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consistent with punctuation—and keep that simple—minimize semi-colons or elaborate punctuation systems. underlining,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lutter—parentheses, too many layers of commas, semi-colons, colons. Underlining is a holdover from typewriters (few op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ssy, poorly edited resume tells the prospective employer legions about you—if you don’t take care presenting YOURSELF, how will you present/relate to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pkin resume” sketched out quickly—content over form ;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learn about this per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8913-E69A-4123-B451-B028AA6D0A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EBF3-630F-4115-B44B-9FB9EFC1ED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CV-writing handout if you plan to look for work in high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8F79-1B09-4A16-8470-580B3EC393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CaLM p.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ter—everything you can think of/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g—specialty, high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formance resume may mention teaching (but with little detail). The teaching resume fleshes out the teaching experiences and just mentions the performanc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suggestions via email to others in your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BD21-B0E9-40FD-90B7-12C7BFAA2D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 piece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ing—who has the goods? Experience, training, specific skills to fit the job (over or under qualified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ood looking resume won’t make up for poor training and no experien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ooking resume looks profess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; may help you get to the next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t your horn—resume is not the place to be modest or s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p h.s. experience (unless major competitions, awar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versions for different aspects of your career (one for performing, one for teaching, for ex); then tailor each one to the specific position you are seeking—many of you have already don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067D-C767-4AD4-85CF-3B386B10F9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” Examples. Face down on desk. Turn over, 10” scan. What do you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should they look longer at yours? What will set you apart? Get you to the next le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you make an individual impact when there may be a stack of applicants 2 inches thick? Best advice—always imagine your application as part of a huge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rue—all that work prepping and primping your resume—for a cursory g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our topic for toda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on the board—then brainstorm (from Eastman list) to fil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—schools/degrees/+ teac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—bands/venues/leaders/tours/recording/show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; profess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skills—software; writing; repair; languages; teaching; arranging; compo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ture some categories that work for you and start filling in the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2FA7-BF1B-40ED-9542-67498943CD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10D0-4996-432F-9DAD-76772678BC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resumes are 1 page—goal is to get the audition opportunity. Keep it succin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at the top for awhile, especially if your experience is limited—school IS your experience at that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ly verbs—also quality and quantity verbs “Played with Grammy winner Ms X five times on tour in Europe to critical acclaim” Then include the re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info on the left: show example of both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quality neutral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t your ho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sume in a stack of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any high school references—even cool ones like all-state—unless you won a huge competition. Sadly perhaps, h.s. importance drops away quickly once you gradu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1E07-7983-4DD7-9727-C6CAA64CF4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B0F1-954E-4CDA-A241-4974EDBBB0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ed local band directors and offered to do workshops on their instruments—led to private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he same with chamber ensem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sub auditions, commission new music, record a cd (how to be unique), enter competitions, audition to appear at conferences, do an exchange concert with a friend in another part of the country; get on performing arts ro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nteer with an arts organization you’re interested in—ditto for inter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’re a designer, consider pro bono or bartered projects to build your professional portfolio of work, meet others, gain vi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6D09-FA28-4F8A-A63F-0F149669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C26-9175-4536-968C-A6470CA5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5D12-08C8-4FF3-9320-3F93F2FA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F821-8A59-4244-8325-485D81D8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C5F6-24B3-478F-B277-EB30765D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49AE-0ED2-4BFE-9400-9E677C3B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D26C-EC54-4205-A787-81DB2067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101-A420-4BDC-B5AC-82D57422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A96-64AA-463A-9DBA-84B76335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BE5D-D648-4751-8879-60ACBDBC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EAC-17AA-4567-8476-4BAC5C87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1E1B-3950-4BC1-B5E9-1598E29B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42DA-F39B-4BEF-89D4-BB81B56AA1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95280" y="-36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Eras Demi ITC"/>
              </a:rPr>
              <a:t>Résumé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Eras Demi ITC"/>
              </a:rPr>
              <a:t>Tips for Musicia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crossroads.jpg"/>
          <p:cNvPicPr/>
          <p:nvPr/>
        </p:nvPicPr>
        <p:blipFill>
          <a:blip r:embed="rId1"/>
          <a:stretch/>
        </p:blipFill>
        <p:spPr>
          <a:xfrm>
            <a:off x="1828800" y="1752480"/>
            <a:ext cx="5791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Eras Demi ITC"/>
              </a:rPr>
              <a:t>BUILDING your résumé, con’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how initiative and amb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ow can you fill ho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n your experienc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backgrou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Finding and creating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7" descr="construction2"/>
          <p:cNvPicPr/>
          <p:nvPr/>
        </p:nvPicPr>
        <p:blipFill>
          <a:blip r:embed="rId1"/>
          <a:stretch/>
        </p:blipFill>
        <p:spPr>
          <a:xfrm>
            <a:off x="4191120" y="18288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EDIT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EDIT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EDIT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7" descr="sotp"/>
          <p:cNvPicPr/>
          <p:nvPr/>
        </p:nvPicPr>
        <p:blipFill>
          <a:blip r:embed="rId1"/>
          <a:stretch/>
        </p:blipFill>
        <p:spPr>
          <a:xfrm rot="823800">
            <a:off x="3733920" y="838080"/>
            <a:ext cx="46767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resume"/>
          <p:cNvPicPr/>
          <p:nvPr/>
        </p:nvPicPr>
        <p:blipFill>
          <a:blip r:embed="rId1"/>
          <a:stretch/>
        </p:blipFill>
        <p:spPr>
          <a:xfrm>
            <a:off x="1785960" y="0"/>
            <a:ext cx="557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5715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Eras Demi ITC"/>
              </a:rPr>
              <a:t>Curriculum Vita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ac00cf"/>
                </a:solidFill>
                <a:latin typeface="Eras Demi ITC"/>
              </a:rPr>
              <a:t>Latin for "course of life"</a:t>
            </a:r>
            <a:r>
              <a:rPr b="0" lang="en-US" sz="4000" spc="-1" strike="noStrike">
                <a:solidFill>
                  <a:srgbClr val="ac00c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known as a “C.V.” or “Vita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re detailed résum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resume “bucket”—store everything you’ve don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 specialized résumés off your 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Eras Demi ITC"/>
              </a:rPr>
              <a:t>Résumé Assignmen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(or revise)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2 Resu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ter Resume (C.V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 page specialty res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ring draft to class on 10/6 or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Eras Demi ITC"/>
              </a:rPr>
              <a:t>Why?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intro pie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accomplish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t your h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ver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7" descr="Toot-Your-Own-Horn"/>
          <p:cNvPicPr/>
          <p:nvPr/>
        </p:nvPicPr>
        <p:blipFill>
          <a:blip r:embed="rId1"/>
          <a:stretch/>
        </p:blipFill>
        <p:spPr>
          <a:xfrm>
            <a:off x="5181480" y="1523880"/>
            <a:ext cx="3700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Eras Demi ITC"/>
              </a:rPr>
              <a:t>Really?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verage résumé is scanned for no more tha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8 – 10 SECO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Content Placeholder 7" descr="resumestack2.jpg"/>
          <p:cNvPicPr/>
          <p:nvPr/>
        </p:nvPicPr>
        <p:blipFill>
          <a:blip r:embed="rId1"/>
          <a:srcRect l="-17685" t="0" r="-17685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badi MT Condensed Extra Bold"/>
                <a:ea typeface="Abadi MT Condensed Extra Bold"/>
              </a:rPr>
              <a:t>Categories</a:t>
            </a:r>
            <a:endParaRPr b="0" lang="en-US" sz="7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resumesample2.jpg"/>
          <p:cNvPicPr/>
          <p:nvPr/>
        </p:nvPicPr>
        <p:blipFill>
          <a:blip r:embed="rId1"/>
          <a:stretch/>
        </p:blipFill>
        <p:spPr>
          <a:xfrm>
            <a:off x="1701720" y="0"/>
            <a:ext cx="574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Eras Demi ITC"/>
              </a:rPr>
              <a:t>Résumé ‘Riting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Eras Demi ITC"/>
              </a:rPr>
              <a:t>Quick Tips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 catching but simple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font “logo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your skil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ch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heir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info on the l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DF for dig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noH.S..jpg"/>
          <p:cNvPicPr/>
          <p:nvPr/>
        </p:nvPicPr>
        <p:blipFill>
          <a:blip r:embed="rId1"/>
          <a:stretch/>
        </p:blipFill>
        <p:spPr>
          <a:xfrm>
            <a:off x="1886040" y="990720"/>
            <a:ext cx="5205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Don’t include miscellaneous job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Eras Demi ITC"/>
              </a:rPr>
              <a:t>Résumé a little thin?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—studio, works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 outside of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in professional organ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nteer at concerts, master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ships, related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 savvy about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rite articles, songs, arrangements, adjudicate,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French Script MT"/>
              </a:rPr>
              <a:t>You’re limited only by your creativit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French Script MT"/>
              </a:rPr>
              <a:t>And time, of cours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sun&amp;stars.jpg"/>
          <p:cNvPicPr/>
          <p:nvPr/>
        </p:nvPicPr>
        <p:blipFill>
          <a:blip r:embed="rId1"/>
          <a:stretch/>
        </p:blipFill>
        <p:spPr>
          <a:xfrm>
            <a:off x="5040360" y="1371600"/>
            <a:ext cx="410364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4:49:34Z</dcterms:created>
  <dc:creator>HP Authorized Customer</dc:creator>
  <dc:description/>
  <dc:language>en-US</dc:language>
  <cp:lastModifiedBy>McNally Smith</cp:lastModifiedBy>
  <dcterms:modified xsi:type="dcterms:W3CDTF">2010-10-02T20:52:01Z</dcterms:modified>
  <cp:revision>50</cp:revision>
  <dc:subject/>
  <dc:title>Résumés</dc:title>
</cp:coreProperties>
</file>