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3F14-BA5F-46FB-BC6A-454888F0A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BC75-28BD-48F4-8473-B90F5C1984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D0A9-355B-46B7-AFE8-E7C896C12D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TE listserv story on getting a college job. Promised you that reality checks would be balanced with action opportunit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 22 of career building—you need experience to ge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say, this is great—except I haven’t really DONE anything yet/don’t have any professional exper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and am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ing holes. Professional students get good at responding to others’ demands, fulfilling requirements, discerning how to ‘get the A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o-called ‘real’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the shift to being in charge of your own career, taking the initiative, not waiting for the phone to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2B29-A889-479A-8248-3172037EB7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your resume to several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 spelling—special care with people’s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consistent with punctuation—and keep that simple—minimize semi-colons or elaborate punctuation systems. underlining,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lutter—parentheses, too many layers of commas, semi-colons, colons. Underlining is a holdover from typewriters (few op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ssy, poorly edited resume tells the prospective employer legions about you—if you don’t take care presenting YOURSELF, how will you present/relate to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pkin resume” sketched out quickly—content over form ;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learn about this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2EB1-CE1D-4634-A419-8B4E6E32ED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5324-B291-4604-BE72-F18C114252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CV-writing handout if you plan to look for work in high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904D-916E-4928-B4A6-9BDB59A83E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aLM p.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—everything you can think of/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g—specialty, high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formance resume may mention teaching (but with little detail). The teaching resume fleshes out the teaching experiences and just mentions the performanc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suggestions via email to others in you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6FB1-2BBA-4241-8633-B8C9515EAC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piece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ing—who has the goods? Experience, training, specific skills to fit the job (over or under qualified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ood looking resume won’t make up for poor training and no experie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ooking resume looks profess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; may help you get to the nex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 your horn—resume is not the place to be modest or s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 h.s. experience (unless major competitions, aw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versions for different aspects of your career (one for performing, one for teaching, for ex); then tailor each one to the specific position you are seeking—many of you have already don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282E-EBA6-4234-A3BD-1271AFAD50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” Examples. Face down on desk. Turn over, 10” scan. What do you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should they look longer at yours? What will set you apart? Get you to the next le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you make an individual impact when there may be a stack of applicants 2 inches thick? Best advice—always imagine your application as part of a huge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rue—all that work prepping and primping your resume—for a cursory g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our topic for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on the board—then brainstorm (from Eastman list) to fil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—schools/degrees/+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—bands/venues/leaders/tours/recording/show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; profes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skills—software; writing; repair; languages; teaching; arranging; compo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ture some categories that work for you and start filling in th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27C7-7B8B-46D1-8B73-0F2EF3B306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9A13-9B36-4DDF-A7DD-84B141DF47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resumes are 1 page—goal is to get the audition opportunity. Keep it succin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t the top for awhile, especially if your experience is limited—school IS your experience at tha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ly verbs—also quality and quantity verbs “Played with Grammy winner Ms X five times on tour in Europe to critical acclaim” Then include the re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info on the left: show example of both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uality neutral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 your ho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ume in a stack o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any high school references—even cool ones like all-state—unless you won a huge competition. Sadly perhaps, h.s. importance drops away quickly once you grad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0018-3961-41B4-BD2C-D031CC3F78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D3A3-93A0-4AFB-B6AD-B885A1C6E0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ed local band directors and offered to do workshops on their instruments—led to private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he same with chamber ensem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sub auditions, commission new music, record a cd (how to be unique), enter competitions, audition to appear at conferences, do an exchange concert with a friend in another part of the country; get on performing arts ro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eer with an arts organization you’re interested in—ditto for inter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’re a designer, consider pro bono or bartered projects to build your professional portfolio of work, meet others, gain vi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C60-7652-41FC-8B17-7FED0F37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15B-4BAF-4AF3-8512-35C23319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2E1-C268-4EE9-AE6B-1680FD9A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399-9EEE-432F-993D-9A45F8FB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043-5517-4A9C-B8E3-C123E9DC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922-8308-4580-8E47-0EAD744D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EB8-433D-4B50-A444-12B695EE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29D-704C-4F7D-A754-9D38017C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D2D-5551-4670-8E25-DB81A46B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B98-B925-4738-B64D-6B2BB406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986-5E5E-49C6-A812-0896D8A0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B7E-771B-42B7-BD3B-52B59FDF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6701-4A8C-4BEE-90BB-016D5D2124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Eras Demi ITC"/>
              </a:rPr>
              <a:t>Résumé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Eras Demi ITC"/>
              </a:rPr>
              <a:t>Tips for Musici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crossroads.jpg"/>
          <p:cNvPicPr/>
          <p:nvPr/>
        </p:nvPicPr>
        <p:blipFill>
          <a:blip r:embed="rId1"/>
          <a:stretch/>
        </p:blipFill>
        <p:spPr>
          <a:xfrm>
            <a:off x="1828800" y="1752480"/>
            <a:ext cx="5791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Eras Demi ITC"/>
              </a:rPr>
              <a:t>BUILDING your résumé, con’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how initiative and am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ow can you fill h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your experien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ack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inding and creating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construction2"/>
          <p:cNvPicPr/>
          <p:nvPr/>
        </p:nvPicPr>
        <p:blipFill>
          <a:blip r:embed="rId1"/>
          <a:stretch/>
        </p:blipFill>
        <p:spPr>
          <a:xfrm>
            <a:off x="4191120" y="18288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sotp"/>
          <p:cNvPicPr/>
          <p:nvPr/>
        </p:nvPicPr>
        <p:blipFill>
          <a:blip r:embed="rId1"/>
          <a:stretch/>
        </p:blipFill>
        <p:spPr>
          <a:xfrm rot="823800">
            <a:off x="3733920" y="838080"/>
            <a:ext cx="4676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resume"/>
          <p:cNvPicPr/>
          <p:nvPr/>
        </p:nvPicPr>
        <p:blipFill>
          <a:blip r:embed="rId1"/>
          <a:stretch/>
        </p:blipFill>
        <p:spPr>
          <a:xfrm>
            <a:off x="1785960" y="0"/>
            <a:ext cx="55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ras Demi ITC"/>
              </a:rPr>
              <a:t>Curriculum Vita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ac00cf"/>
                </a:solidFill>
                <a:latin typeface="Eras Demi ITC"/>
              </a:rPr>
              <a:t>Latin for "course of life"</a:t>
            </a:r>
            <a:r>
              <a:rPr b="0" lang="en-US" sz="4000" spc="-1" strike="noStrike">
                <a:solidFill>
                  <a:srgbClr val="ac00c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known as a “C.V.” or “Vita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re detailed résum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resume “bucket”—store everything you’ve don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specialized résumés off your 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Eras Demi ITC"/>
              </a:rPr>
              <a:t>Résumé Assignmen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(or revise)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Res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ter Resume (C.V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page specialty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ring draft to class on 10/6 or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Eras Demi ITC"/>
              </a:rPr>
              <a:t>Why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intro pie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accompl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t your h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ver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Toot-Your-Own-Horn"/>
          <p:cNvPicPr/>
          <p:nvPr/>
        </p:nvPicPr>
        <p:blipFill>
          <a:blip r:embed="rId1"/>
          <a:stretch/>
        </p:blipFill>
        <p:spPr>
          <a:xfrm>
            <a:off x="5181480" y="1523880"/>
            <a:ext cx="370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Eras Demi ITC"/>
              </a:rPr>
              <a:t>Really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résumé is scanned for no more tha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8 – 10 SECO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Content Placeholder 7" descr="resumestack2.jpg"/>
          <p:cNvPicPr/>
          <p:nvPr/>
        </p:nvPicPr>
        <p:blipFill>
          <a:blip r:embed="rId1"/>
          <a:srcRect l="-17685" t="0" r="-17685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badi MT Condensed Extra Bold"/>
                <a:ea typeface="Abadi MT Condensed Extra Bold"/>
              </a:rPr>
              <a:t>Categories</a:t>
            </a:r>
            <a:endParaRPr b="0" lang="en-US" sz="7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resumesample2.jpg"/>
          <p:cNvPicPr/>
          <p:nvPr/>
        </p:nvPicPr>
        <p:blipFill>
          <a:blip r:embed="rId1"/>
          <a:stretch/>
        </p:blipFill>
        <p:spPr>
          <a:xfrm>
            <a:off x="1701720" y="0"/>
            <a:ext cx="574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Eras Demi ITC"/>
              </a:rPr>
              <a:t>Résumé ‘Riting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Eras Demi ITC"/>
              </a:rPr>
              <a:t>Quick Tip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catching but simpl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font “logo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our skil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ch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heir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info on the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DF for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noH.S..jpg"/>
          <p:cNvPicPr/>
          <p:nvPr/>
        </p:nvPicPr>
        <p:blipFill>
          <a:blip r:embed="rId1"/>
          <a:stretch/>
        </p:blipFill>
        <p:spPr>
          <a:xfrm>
            <a:off x="1886040" y="990720"/>
            <a:ext cx="5205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on’t include miscellaneous job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Eras Demi ITC"/>
              </a:rPr>
              <a:t>Résumé a little thin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—studio, works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 outside of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 professional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eer at concerts, master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ships, related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savvy about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 articles, songs, arrangements, adjudicate,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French Script MT"/>
              </a:rPr>
              <a:t>You’re limited only by your creativit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French Script MT"/>
              </a:rPr>
              <a:t>And time, of cours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sun&amp;stars.jpg"/>
          <p:cNvPicPr/>
          <p:nvPr/>
        </p:nvPicPr>
        <p:blipFill>
          <a:blip r:embed="rId1"/>
          <a:stretch/>
        </p:blipFill>
        <p:spPr>
          <a:xfrm>
            <a:off x="5040360" y="1371600"/>
            <a:ext cx="41036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4:49:34Z</dcterms:created>
  <dc:creator>HP Authorized Customer</dc:creator>
  <dc:description/>
  <dc:language>en-US</dc:language>
  <cp:lastModifiedBy>McNally Smith</cp:lastModifiedBy>
  <dcterms:modified xsi:type="dcterms:W3CDTF">2010-10-02T20:52:01Z</dcterms:modified>
  <cp:revision>50</cp:revision>
  <dc:subject/>
  <dc:title>Résumés</dc:title>
</cp:coreProperties>
</file>